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A784E-ADC4-4A66-9EA2-8622C25E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2FDA0-A8CA-44FD-8D66-D74AAD58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93AB6-1D00-416B-93E4-B5086E36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E2AB5-1AE6-4E6B-841A-68CE0D5F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FBD7-A8CC-4C5A-A840-EFA4BBC2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883F-DC9C-4FEB-B289-D746B857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F0A5-7F9A-4E17-AF7B-E2AD8338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6B21-FD1F-4AC6-B7B3-3D59FD0C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EE2D-DF9A-407A-8417-74AA09AB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AD90-2E14-4BD1-A4A1-8C08F3CA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E73F-D1F6-4C43-9647-FCE39597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B9D16-9DF0-421E-B208-4EDD4B87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6FFD-8078-4990-85B3-72EC5FB6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577B-0515-4642-BE15-4C3AF06C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CC13-8662-4365-B5C3-6341C235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8120-C98F-480B-8D3F-549F4BA1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DB28-90CB-4910-B617-B4090F38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E4C0A-7821-44F6-9675-BC0CCFDE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4C376-A671-4A51-A1C5-1B72E310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849B2-0D92-444A-A7A1-99C262FD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0F235-F26A-45E0-937E-B964E25F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06D7C-390A-467E-A574-D48B777B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05F76-83EF-4C9C-B885-FE08A420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D0014-3EA0-4E7F-9C35-F3553E5B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B2E9-5951-43AB-A7F5-5A8124B613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B75B-4DA7-41B2-8403-69E5F3FB59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ing Playfai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it a Playfair Ciph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687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everal characteristics of Playfair ciphertext that can be useful in identifying it as a Playfai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it is a substitution system, the rare consonants j, k, q, x, and z will appear in higher frequencies than plaintext and digraphs containing these consonants will appear more frequ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an even number of letters in the 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ciphertext is broken up into digrams, doubled letters such as SS, EE, MM, . . . will not app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912E5-F38E-4DFC-B150-484799FFFB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4360" y="209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0680" y="1346040"/>
            <a:ext cx="74563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will help in the process of identifying a Playfair (or other polygraphic)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65240" y="2200320"/>
            <a:ext cx="1193760" cy="4657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67000" y="2838600"/>
            <a:ext cx="5742000" cy="3806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71560" y="3067200"/>
            <a:ext cx="1095480" cy="657000"/>
          </a:xfrm>
          <a:prstGeom prst="wedgeRoundRectCallout">
            <a:avLst>
              <a:gd name="adj1" fmla="val -42319"/>
              <a:gd name="adj2" fmla="val 67634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A41C5-50B5-4CA3-8CEA-D000F36100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7T03:22:54Z</dcterms:modified>
  <cp:revision>65</cp:revision>
  <dc:subject/>
  <dc:title>CAP Cryptographic Analysis Program</dc:title>
</cp:coreProperties>
</file>